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49E-DF0B-46CA-9E40-36A30EB9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C19-7EC5-4106-A473-A44B6EC8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29D-3DE5-46CA-BEEC-6FB0CA05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553-4DFB-4CAB-B57B-C9EFC3B9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988B-8BB0-4D89-92C5-C5F46EAC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4E6E-C5D1-4E7A-9EEF-3AF8511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E58C-8B65-4F3E-B76A-885E2BCA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E266-752F-4981-A4D8-662D349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2790-F472-4260-B049-853372B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1010-0454-41DD-8846-2EC1048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09D-282E-459F-A132-36612339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AE3-0F31-4787-BEAB-D8754CC6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4612-48F9-48D8-80FA-AFC8B96F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2084-D98C-489D-BC7B-1E84A6D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A574-FFE9-4421-8CDE-5DCBBBCA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A801-5685-4F99-A990-94C8F5D3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9F31-F626-4461-B54B-973F7793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7FCFE-77F3-4A3F-97DC-675D68CA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DFDF-1A6C-4408-95FE-EF49AFA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F7D5D-FE9C-457E-9FB5-495B142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AC4E2-C83E-4B30-8409-B9FC4477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1980-F069-4322-960A-27975DE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C19-68F1-440B-97B8-1E8B52B6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0285E-A586-4117-A375-DA2879A2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C80A-C561-4E9A-869E-AB38FCC9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2597-DA1B-48FD-8C2B-CB5C142B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3D5D-0437-40C3-AE9F-0DC9B960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2EDC-BDF0-403A-A7BE-34FA7EDE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6211-30D4-43C8-9126-586E4A77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C1BD-D7A1-446B-B95B-E69914E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F29F-B6C6-4D1D-A1EF-78095D9C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697B-3ECB-4176-9580-E481041D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D6DF-BF17-4BA0-8E70-D01FC97A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A90-2B53-420E-BBC7-3CF8EB9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054A-DD48-4498-AD44-9171CA7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17AD-35D1-4A8B-AC81-C0F6A25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F545-B44A-4735-BC21-4745660C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4B1B-48F1-491B-BFE4-963FC21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75B80-111E-419E-A16E-57A8690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A53A4-EAE3-4AC3-BC8C-24F9053B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76E5-404C-44DB-A2B0-9FB6518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1896-13D7-43BD-AB27-A4F7DD0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68B1-FCDF-4CC8-AC06-6B654856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B2721-347C-4A64-AC15-5CFF91F9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1F5-53F1-4893-90B7-33AE71B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EC18-46FC-4FE1-A839-9125BB0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FA5F-1705-4BB9-B7AE-9F286D42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067D4-6FE9-4D6A-9BF2-89148844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D339-580E-467F-A48E-6164082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AEAFA-B0B1-44AA-8966-DFA276C5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8FBB-6B96-4428-8104-412847E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AFB7-49AE-4348-859B-42029B1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6725-E3FE-4977-8B1F-F3C76D10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6209-AABD-452D-8AB8-88AA39E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A587-3EEF-4292-AC52-9455B179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BFA-30BA-4E2B-8B91-52D39509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9F6E-9775-4EA5-A190-BADEF416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2098-1EBC-47CA-8DF8-1F6AB89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829-3A94-4618-A066-8F84D84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74B-D25E-4B76-94AA-2EC1F96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DC3-4721-48A2-A539-041D53D01F86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2BCE-BED2-4565-9FF1-66A27F2842E9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B2A9-0610-492D-A73D-BA7B946991F0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1A1-048A-47E8-A2DC-7499151A2B29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EB23-5211-408B-8DF1-64A73970AAD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371240"/>
            <a:ext cx="856908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‘</a:t>
            </a: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Internet of Things: </a:t>
            </a:r>
            <a:br>
              <a:rPr sz="4800"/>
            </a:b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technologies and applications</a:t>
            </a: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’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MSc. Informatics Engineer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r. Spyros Panagiotaki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r. Evangelos Markaki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Io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59984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ain Objective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Understanding of IoT fundamental concepts,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Advanced research topics, on Io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o cultivate practical skills related to IoT develop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cu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oT Networking and data managemen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bers of sta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r. Spyros Panagiotaki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r. Evangelos Markaki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 hours per wee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wo (2) hours of flipped classroom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wo (2) hours of laboratory classes: Wee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sessment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eoretical par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ral assignments at course unit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roject work: (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actical par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mall assignments during the course unit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eam Project work: (</a:t>
            </a: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ne report is delivered describing the project development and the theoretical background behind i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 first version of the report is requested midterm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684360" y="965160"/>
          <a:ext cx="7343640" cy="2463840"/>
        </p:xfrm>
        <a:graphic>
          <a:graphicData uri="http://schemas.openxmlformats.org/drawingml/2006/table">
            <a:tbl>
              <a:tblPr/>
              <a:tblGrid>
                <a:gridCol w="1331640"/>
                <a:gridCol w="884520"/>
                <a:gridCol w="865080"/>
                <a:gridCol w="826920"/>
                <a:gridCol w="1203480"/>
                <a:gridCol w="1081080"/>
                <a:gridCol w="1150920"/>
              </a:tblGrid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η 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to Io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OR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CONTROLLER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UATORS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AL COMMUNICATION PROTOCOLS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ing with IoT based on Arduinos: 1) Introduction, 2) Sensors, 3) Actuators, 4) Communications, 5) Data Management, 6) App development, 7) team project: IoT system development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50920" y="3789360"/>
          <a:ext cx="8020080" cy="2671920"/>
        </p:xfrm>
        <a:graphic>
          <a:graphicData uri="http://schemas.openxmlformats.org/drawingml/2006/table">
            <a:tbl>
              <a:tblPr/>
              <a:tblGrid>
                <a:gridCol w="855720"/>
                <a:gridCol w="1011240"/>
                <a:gridCol w="1157040"/>
                <a:gridCol w="792360"/>
                <a:gridCol w="704880"/>
                <a:gridCol w="799920"/>
                <a:gridCol w="969840"/>
                <a:gridCol w="865440"/>
                <a:gridCol w="863640"/>
              </a:tblGrid>
              <a:tr h="54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η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cture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LESS SENSOR NETWORKS (WSN)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UD AND EDGE COMPUTING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S FOR INTEROPERABLE COMMUNICATION 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ISSUES FOR IO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oT DATA MANAGEMENT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oT and PHYSICAL COMPUTING APPLICATIONS </a:t>
                      </a:r>
                      <a:endParaRPr b="0" lang="en-US" sz="11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s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ticing with IoT based on Arduinos: 1) Introduction, 2) Sensors, 3) Actuators, 4) Communications, 5) Data Management, 6) App development, 7) team project: IoT system development 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0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59984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ctures’ schedule: every Tuesday 17:00-20:00 at Sensor Networks Lab (opposite to the students’ Radio Station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arning material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Lecture slide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Internet article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Research paper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Paul Dourish and Genevieve Bell, 2008. Yesterday's Tomorrows: Notes on Ubiquitous Computing's Dominant Vision. Personal and Ubiquitous Computing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David Rose (2014) Enchanted Objects: Design, Human Desire and The Internet of Things, Scribner.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Mike Kuniavsky (2010) Smart Things, Ubiquitous Computing User Experience Design, Elsevi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Rogers Y,Hazlewood W,Marshall P,Dalton NS,Hertrich S, (2010) Ambient Influence: Can Twinkly Lights Lure and Abstract Representations Trigger Behavioral Change?, UbiComp 2010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34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[The Secret Life of Electronic Objects - A Dunne, F Raby (2002) Design Noir: The Secret Life of Electronic Object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e-requisit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tudents familiar with programming and electronics circuits design will have the advantag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lectronic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rduino programm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Varies according to the backgrou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Normally no more than 3 hours in averag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2020 proje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267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flex sensors -&gt; https://www.youtube.com/watch?v=b7zT94WV-Ek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glove -&gt; https://www.youtube.com/watch?v=QOyghUxLdq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MPU </a:t>
            </a: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για στροφες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εμεις θα κανουμε ασυρματο ελεγχο ενος αυτοκινητου με το γαντι οποτε θα αντικαταστησουμε το arduino στο γαντι με esp32 και θα εχουμε και </a:t>
            </a: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bluetooth</a:t>
            </a: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 για την επικοινωνια με το αυτοκινητο. το esp θα χρειαστει για την επικοινωνια με το nodered για να καταγραφονται εκει οι κινησεις που γινονται.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sto nodered mas endiaferoyn ayta ta 8emata: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https://www.youtube.com/watch?v=JdV4x925au0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292934"/>
                </a:solidFill>
                <a:latin typeface="Arial"/>
              </a:rPr>
              <a:t>https://flows.nodered.org/node/node-red-contrib-machine-learning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Spyros Panagiotakis</cp:lastModifiedBy>
  <dcterms:modified xsi:type="dcterms:W3CDTF">2025-02-17T14:28:15Z</dcterms:modified>
  <cp:revision>91</cp:revision>
  <dc:subject/>
  <dc:title>‘Informatics &amp; multimedia’</dc:title>
</cp:coreProperties>
</file>